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12.png" ContentType="image/png"/>
  <Override PartName="/ppt/media/image5.pct" ContentType="image/x-pict"/>
  <Override PartName="/ppt/media/image8.png" ContentType="image/png"/>
  <Override PartName="/ppt/media/image6.png" ContentType="image/pn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AD4-96A2-4FDD-BFBE-460F9325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A647-9DE5-4F3D-ABB6-B137F7AD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758A-D866-4366-AD49-BFA633E8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45A-1F4A-4807-B63C-04C788B6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2B3D-4F68-46BD-BE51-973F31F4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58DC-37CA-4695-832D-46F8AC96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5D09-820B-41EB-8171-8D86A998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03F2-2AF5-45C8-8712-AB0154F2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7D0F-EDE6-40CD-A31A-56AEC9D0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69D5-A093-4F51-A4B9-0BD46C9D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3B49-B2F3-4AC7-8D62-3ADC9521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B5D-BA69-4C2E-9309-FA267249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E506-B9F9-41FA-AFC8-AE0C9F46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A7F8-12B4-4361-A504-E7094F36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0551-0702-49A2-9B6B-004D740F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C126-45E8-43DF-9A4B-AF3C5A38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F03C-4283-471C-9A70-13D59189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5405-758D-42A6-A222-0ADBE82C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D77-3D29-4871-9286-C1F8DD98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510-4C31-419B-9244-9A7C69BF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3E3-3224-4B25-82B9-BD09811D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009-48E9-4790-BE48-736462EA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B041-B9CD-44A6-B73F-C0EA144E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B1FA-614A-47DE-8D91-5BE24AA9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4517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4517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4517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4517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4517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43DA-143B-4717-BD46-501B3F3A6CC2}" type="slidenum">
              <a:rPr b="0" lang="en-US" sz="1400" spc="-1" strike="noStrike">
                <a:solidFill>
                  <a:srgbClr val="674517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Palatino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517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517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517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517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  <a:p>
            <a:pPr lvl="4" marL="2036520" indent="-226080">
              <a:spcBef>
                <a:spcPts val="799"/>
              </a:spcBef>
              <a:buClr>
                <a:srgbClr val="4d4d4d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517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  <a:p>
            <a:pPr lvl="5" marL="2036520" indent="-226080">
              <a:spcBef>
                <a:spcPts val="799"/>
              </a:spcBef>
              <a:buClr>
                <a:srgbClr val="674517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517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  <a:p>
            <a:pPr lvl="6" marL="2036520" indent="-226080">
              <a:spcBef>
                <a:spcPts val="799"/>
              </a:spcBef>
              <a:buClr>
                <a:srgbClr val="674517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517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4517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4517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4517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4517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4517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6C30-82A0-4F67-A352-3F4367276292}" type="slidenum">
              <a:rPr b="0" lang="en-US" sz="1400" spc="-1" strike="noStrike">
                <a:solidFill>
                  <a:srgbClr val="674517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Palatino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517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4517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674517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74517"/>
                </a:solidFill>
                <a:latin typeface="Palatino"/>
              </a:rPr>
              <a:t>Third Outline Level</a:t>
            </a:r>
            <a:endParaRPr b="0" i="1" lang="en-US" sz="2400" spc="-1" strike="noStrike">
              <a:solidFill>
                <a:srgbClr val="674517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4517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674517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Palatino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4517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674517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674517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4517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674517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674517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4517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674517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d4d4d"/>
                </a:solidFill>
                <a:latin typeface="Palatino"/>
              </a:rPr>
              <a:t>ABC Biography of</a:t>
            </a: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152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74517"/>
                </a:solidFill>
                <a:latin typeface="Palatino"/>
              </a:rPr>
              <a:t>Benjamin Franklin</a:t>
            </a:r>
            <a:endParaRPr b="0" lang="en-US" sz="8800" spc="-1" strike="noStrike">
              <a:solidFill>
                <a:srgbClr val="674517"/>
              </a:solidFill>
              <a:latin typeface="Palatino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384880" y="990720"/>
            <a:ext cx="3504960" cy="5537160"/>
            <a:chOff x="5384880" y="990720"/>
            <a:chExt cx="3504960" cy="553716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5562720" y="1066680"/>
              <a:ext cx="3327120" cy="54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5384880" y="990720"/>
              <a:ext cx="1015920" cy="2832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 rot="5400000">
            <a:off x="-1714680" y="2628720"/>
            <a:ext cx="6019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BC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6094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Although Ben Franklin was born in Boston, the city of Philadelphia was known as his home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255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Benjamin’s father wanted him to go into the clergy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6576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Clergymen require years of school and Ben’s father could only afford to send him for one year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650960" cy="198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09680" y="533412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During his youth, Ben worked as an apprentice in his brother’s printing and newspaper businesses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5400000">
            <a:off x="-1714680" y="2628720"/>
            <a:ext cx="6019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FG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3366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Even though Ben had kept the newspaper going while his brother was in prison, his brother harassed and beat him when he was released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22255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For his own safety, Ben ran away to Philadelphia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35812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Getting started in his own business was difficult, but Ben managed to open his own print shop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51814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He married his childhood sweetheart and together they ran the print shop, a general store, and a book store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10280" y="3886200"/>
            <a:ext cx="1905120" cy="237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 rot="5400000">
            <a:off x="-1714680" y="2628720"/>
            <a:ext cx="6019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JK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609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In 1729, Benjamin bought a newspaper, </a:t>
            </a:r>
            <a:r>
              <a:rPr b="0" i="1" lang="en-US" sz="2400" spc="-1" strike="noStrike">
                <a:solidFill>
                  <a:srgbClr val="674517"/>
                </a:solidFill>
                <a:latin typeface="Times New Roman"/>
              </a:rPr>
              <a:t>The Pennslyvania Gazette. </a:t>
            </a: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He contributed articles under aliases and created the first political cartoon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222552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Just a few years later, in 1733, Ben began to write and publish </a:t>
            </a:r>
            <a:r>
              <a:rPr b="0" i="1" lang="en-US" sz="2400" spc="-1" strike="noStrike">
                <a:solidFill>
                  <a:srgbClr val="674517"/>
                </a:solidFill>
                <a:latin typeface="Times New Roman"/>
              </a:rPr>
              <a:t>Poor Richard’s Almanac</a:t>
            </a: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380988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Keeping to his strong civic convictions, Ben launched projects to pave, clean, and light Philadelphia’s streets. 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533412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Later, he started the first fire department in the city, and founded an insurance company for those who lost homes in fires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0120" y="1981080"/>
            <a:ext cx="115704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 rot="5400000">
            <a:off x="-1714680" y="2628720"/>
            <a:ext cx="6019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NO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3049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Making a decision to retire from business in 1749, Ben started concentrating on science, experiments, and inventions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19810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Never one to give up, Ben invented swim fins, bifocals, the Franklin stove, and other things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90204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Observations, such as his kite experiment, led to the discovery of electricity. 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533412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Politics became an active interest for Franklin and he spent the next 18 years in England as a colonial representative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81680" y="1676520"/>
            <a:ext cx="1978200" cy="193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 rot="5400000">
            <a:off x="-1714680" y="2628720"/>
            <a:ext cx="6019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R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3808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Quitting his London position, Franklin returned to America where he worked on the committee to draft the Declaration of Independence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222552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Right after his wife died, Franklin moved to France where he served as an ambassador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36576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Speaking a little French, Franklin became with the ladies and was a notorious flirt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533412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The Treaty of France was signed by Franklin in 1783, after the Americans had won the Revolution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086600" y="3124080"/>
            <a:ext cx="1905120" cy="2146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 rot="5400000">
            <a:off x="-1714680" y="2628720"/>
            <a:ext cx="6019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VW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6094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Until his late seventies, Franklin stayed in France. Finally he returned to America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22255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Voters elected Franklin to the Executive council of Pennsylvania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380988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While serving as a delegate, Franklin signed the Constitution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533412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eXactly why he died is not known, but Franklin passed away in 1790 at the age of 84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2209680"/>
            <a:ext cx="1905120" cy="2336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 rot="5400000">
            <a:off x="-342720" y="1257120"/>
            <a:ext cx="31244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6094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Years of public service had made Franklin very popular. Over 20,000 people attended his funeral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228600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Zealous supporters say that Franklin’s “electric” personality still lights the world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 flipH="1">
            <a:off x="6172200" y="3429000"/>
            <a:ext cx="2540160" cy="3263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77560" y="5791320"/>
            <a:ext cx="298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4517"/>
                </a:solidFill>
                <a:latin typeface="Times New Roman"/>
              </a:rPr>
              <a:t>Information and images in </a:t>
            </a:r>
            <a:endParaRPr b="0" lang="en-US" sz="1600" spc="-1" strike="noStrike">
              <a:solidFill>
                <a:srgbClr val="67451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4517"/>
                </a:solidFill>
                <a:latin typeface="Times New Roman"/>
              </a:rPr>
              <a:t>this presentation are from: </a:t>
            </a:r>
            <a:endParaRPr b="0" lang="en-US" sz="1600" spc="-1" strike="noStrike">
              <a:solidFill>
                <a:srgbClr val="67451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4517"/>
                </a:solidFill>
                <a:latin typeface="Times New Roman"/>
              </a:rPr>
              <a:t>http://www.ushistory.org/franklin/</a:t>
            </a:r>
            <a:endParaRPr b="0" lang="en-US" sz="1600" spc="-1" strike="noStrike">
              <a:solidFill>
                <a:srgbClr val="67451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21:09:12Z</dcterms:created>
  <dc:creator>Tammy Worcester</dc:creator>
  <dc:description/>
  <dc:language>en-US</dc:language>
  <cp:lastModifiedBy>Tammy Worcester</cp:lastModifiedBy>
  <dcterms:modified xsi:type="dcterms:W3CDTF">2003-10-10T00:13:29Z</dcterms:modified>
  <cp:revision>7</cp:revision>
  <dc:subject/>
  <dc:title>ABC Biography of</dc:title>
</cp:coreProperties>
</file>